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800-AB72-4EF9-A3CD-9634A5E9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D3A-04CF-4B8A-BEE1-819D9056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4CB-B977-4769-967D-79E3EEB6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CA7-1375-4CD5-B049-F14D1607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02C-CD8A-4003-A91C-56A42456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72D6-64C6-4866-9F5F-B821F942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115-9F67-482A-B922-15E9D07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38A-47B0-46A4-8532-43E5FC00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5DDE-F950-4F69-8050-76018F42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4AA-0A20-4640-9B56-E256297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9545-9ACE-403D-9594-05BC467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B3C-D07B-4F08-91D1-DCE666A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C528-BFA2-45AA-A377-9F381A9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7C4C-393E-4B1E-8258-E636842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5A0-58A0-48AD-9246-8A6E391B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1BA-EA81-4321-B397-3C9F3F99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AFB-425B-4DE1-B418-CB52463B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42B-A4A8-4394-BF9A-A814EAF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881-FF34-4C83-A4A6-3A6E7F0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C9C-7DA7-47F1-B508-B00DAC4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28A-3F45-4231-9B5F-FCF46C37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06F-9554-4080-9C57-0D367BF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6F5-6FD5-4866-BDB5-B6A0D15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8B2-0879-4B8D-B05F-1ADA40D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61E-4CA3-4D5D-AFF0-C9BC891DF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F928-6C4B-4AF9-AD9C-087344FE2A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56000" y="189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riterii de parale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20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upri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125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Recapitularea cunostiintelor anterio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413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Teorema dreptelor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1700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Consecinte ale teoremei dreptelor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19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Criterii de paralelis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276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Aplicat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511200">
            <a:off x="434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96440" y="5375160"/>
            <a:ext cx="3038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3429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7969800">
            <a:off x="574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72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0920" y="5805360"/>
            <a:ext cx="48261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3860640"/>
            <a:ext cx="47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2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5805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93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9280" y="350028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492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4920" y="537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292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0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f. Bud Adr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6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6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6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6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6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6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627280" y="1341360"/>
                <a:ext cx="27464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50872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978440" y="1387440"/>
                <a:ext cx="2838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952880" y="1387440"/>
                <a:ext cx="2786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978440" y="1459080"/>
                <a:ext cx="2838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076720" y="1413000"/>
                <a:ext cx="268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5720" y="537516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06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0649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8511200">
            <a:off x="3012480" y="326232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200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7969800">
            <a:off x="261648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627640" y="3706920"/>
            <a:ext cx="739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8" y="519"/>
                </a:moveTo>
                <a:arcTo wR="10800" hR="10800" stAng="-4329682" swAng="7137053"/>
                <a:lnTo>
                  <a:pt x="10800" y="10800"/>
                </a:lnTo>
                <a:close/>
              </a:path>
              <a:path fill="none" w="21600" h="21600">
                <a:moveTo>
                  <a:pt x="14108" y="519"/>
                </a:moveTo>
                <a:arcTo wR="10800" hR="10800" stAng="-4329682" swAng="7137053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56000" y="429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corespon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9520" y="907920"/>
            <a:ext cx="78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corespondente congruente, atunci dreptele sunt paralele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0"/>
                            </p:stCondLst>
                            <p:childTnLst>
                              <p:par>
                                <p:cTn id="8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00833E-006 L -0.52483 -0.03261 E">
                                      <p:cBhvr>
                                        <p:cTn id="882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8585E-006 L -0.52257 0.034 E">
                                      <p:cBhvr>
                                        <p:cTn id="90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00833E-006 L -0.51684 0.10384 E">
                                      <p:cBhvr>
                                        <p:cTn id="93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25532E-006 L -0.52257 0.16003 E">
                                      <p:cBhvr>
                                        <p:cTn id="95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211640" y="1989000"/>
                <a:ext cx="4581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211640" y="1989000"/>
                <a:ext cx="4599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7720" y="530064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431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43171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6400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7969800">
            <a:off x="261576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0646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06463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2772000" y="3608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79280" y="3785760"/>
            <a:ext cx="501336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692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3640" y="386064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364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7640" y="4076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in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5520" y="83664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interne de aceasi parte a secantei suplementar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57960" y="119700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unci dreptele sunt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140360" y="1413000"/>
                <a:ext cx="2746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70248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9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0"/>
                            </p:stCondLst>
                            <p:childTnLst>
                              <p:par>
                                <p:cTn id="9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7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6198E-006 L -0.44028 -0.07378 E">
                                      <p:cBhvr>
                                        <p:cTn id="1008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2988E-006 L -0.44739 0.04441 E">
                                      <p:cBhvr>
                                        <p:cTn id="103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260960" y="2111400"/>
                <a:ext cx="4584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211640" y="2060640"/>
                <a:ext cx="4592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8511200">
            <a:off x="2437200" y="390996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78640" y="4005360"/>
            <a:ext cx="4500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0000" y="4292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ex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0000" y="9079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externe de aceasi parte a secantei suplement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3600" y="126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unci dreptele sunt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140360" y="1413000"/>
                <a:ext cx="2746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670248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6" dur="5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0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84551E-007 L -0.46077 -0.06776 E">
                                      <p:cBhvr>
                                        <p:cTn id="108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6855E-006 L -0.45573 0.04163 E">
                                      <p:cBhvr>
                                        <p:cTn id="1109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2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2627280" y="4797360"/>
                <a:ext cx="612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7969800">
            <a:off x="2040480" y="371304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6640" y="126828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046920" y="83664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5063760" y="9097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3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9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6093000"/>
                <a:ext cx="114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 rot="7969800">
            <a:off x="747360" y="5009760"/>
            <a:ext cx="1046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80" y="1086"/>
                </a:moveTo>
                <a:arcTo wR="10800" hR="10800" stAng="-6955044" swAng="5751935"/>
                <a:lnTo>
                  <a:pt x="10800" y="10800"/>
                </a:lnTo>
                <a:close/>
              </a:path>
              <a:path fill="none" w="21600" h="21600">
                <a:moveTo>
                  <a:pt x="6080" y="1086"/>
                </a:moveTo>
                <a:arcTo wR="10800" hR="10800" stAng="-6955044" swAng="5751935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374920" y="4797360"/>
                <a:ext cx="1119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7969800">
            <a:off x="2040480" y="371304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95000" y="177336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435640" y="836640"/>
                <a:ext cx="25304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348840" y="12682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149480" y="1197000"/>
                <a:ext cx="2477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2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2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95640" y="44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8395400">
            <a:off x="1221480" y="52725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042920" y="4508640"/>
                <a:ext cx="1119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2355800">
            <a:off x="2190240" y="3891600"/>
            <a:ext cx="1047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34" y="822"/>
                </a:moveTo>
                <a:arcTo wR="10800" hR="10800" stAng="-4049680" swAng="2846570"/>
                <a:lnTo>
                  <a:pt x="10800" y="10800"/>
                </a:lnTo>
                <a:close/>
              </a:path>
              <a:path fill="none" w="21600" h="21600">
                <a:moveTo>
                  <a:pt x="14934" y="822"/>
                </a:moveTo>
                <a:arcTo wR="10800" hR="10800" stAng="-4049680" swAng="284657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5892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5000" y="177336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435640" y="824040"/>
                <a:ext cx="2530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348840" y="12682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149480" y="1197000"/>
                <a:ext cx="2477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63520" y="5229360"/>
                <a:ext cx="11206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2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2" dur="5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5800" cy="22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024360" cy="22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118200" y="4583160"/>
            <a:ext cx="3025800" cy="227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18200" y="2276640"/>
            <a:ext cx="3025800" cy="22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119640" y="0"/>
            <a:ext cx="3024360" cy="227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32000" y="189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aceti corespondenta co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98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1. Unghiuri opuse la var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2. Unghiuri corespond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1052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284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566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1052640"/>
            <a:ext cx="86328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28000" y="3284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66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700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3. Unghiuri alterne ex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06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4. Unghiuri externe de aceeasi parte a secant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56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5. Unghiuri interne de aceeasi parte a secant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6. Unghiuri alterne in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378936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422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6544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864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51808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95008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378936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422100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465300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08464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551664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595008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19840" y="2997360"/>
                <a:ext cx="27334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041800" y="3022560"/>
                <a:ext cx="2836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48200" y="1413000"/>
                <a:ext cx="3098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98960" y="1459080"/>
                <a:ext cx="29955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511200">
            <a:off x="110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5720" y="537516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7969800">
            <a:off x="250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48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860640"/>
            <a:ext cx="475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393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350028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43480" y="2349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in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eorema dreptelor paralele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200" y="8366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intern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7 L -0.51198 -0.27778 E">
                                      <p:cBhvr>
                                        <p:cTn id="24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84551E-007 L -0.51163 -0.18316 E">
                                      <p:cBhvr>
                                        <p:cTn id="28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730760" y="2637000"/>
                <a:ext cx="2840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59480" y="1268280"/>
                <a:ext cx="29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803840" y="2637000"/>
                <a:ext cx="2735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3280" y="1268280"/>
                <a:ext cx="3098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8511200">
            <a:off x="2860560" y="3290040"/>
            <a:ext cx="1048320" cy="122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7213727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7213727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3429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5877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92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1120" y="1989000"/>
            <a:ext cx="52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ex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520" y="83664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extern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0777E-006 L -0.51337 -0.21462 E">
                                      <p:cBhvr>
                                        <p:cTn id="33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88529E-006 L -0.51111 -0.11656 E">
                                      <p:cBhvr>
                                        <p:cTn id="36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948200" y="2709720"/>
                <a:ext cx="2838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23000" y="2709720"/>
                <a:ext cx="2786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48200" y="2781360"/>
                <a:ext cx="2838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046840" y="2735280"/>
                <a:ext cx="268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851360" y="1125360"/>
                <a:ext cx="304632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1197000"/>
                <a:ext cx="309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917960" y="1150920"/>
                <a:ext cx="29448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876920" y="1125360"/>
                <a:ext cx="309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5720" y="537516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06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0649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511200">
            <a:off x="3012480" y="326232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7969800">
            <a:off x="261648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2627640" y="3706920"/>
            <a:ext cx="739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8" y="519"/>
                </a:moveTo>
                <a:arcTo wR="10800" hR="10800" stAng="-4329682" swAng="7137053"/>
                <a:lnTo>
                  <a:pt x="10800" y="10800"/>
                </a:lnTo>
                <a:close/>
              </a:path>
              <a:path fill="none" w="21600" h="21600">
                <a:moveTo>
                  <a:pt x="14108" y="519"/>
                </a:moveTo>
                <a:arcTo wR="10800" hR="10800" stAng="-4329682" swAng="7137053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71840" y="206208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corespon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9079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corespondent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6901E-006 L -0.51354 -0.2463 E">
                                      <p:cBhvr>
                                        <p:cTn id="41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L -0.50955 -0.16922 E">
                                      <p:cBhvr>
                                        <p:cTn id="45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504 -0.06782 E">
                                      <p:cBhvr>
                                        <p:cTn id="48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4311E-006 L -0.50347 0.00925 E">
                                      <p:cBhvr>
                                        <p:cTn id="51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211640" y="4005360"/>
                <a:ext cx="4581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59520" y="1341360"/>
                <a:ext cx="3046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19640" y="1341360"/>
                <a:ext cx="2995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11640" y="4005360"/>
                <a:ext cx="4599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7720" y="530064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431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4317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7969800">
            <a:off x="261576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0646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06463"/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2772000" y="3608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79280" y="3785760"/>
            <a:ext cx="501336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6021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0000" y="220500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in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6880" y="83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interne de aceasi parte a secantei suplemen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8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53377E-006 L -0.44028 -0.37789 E">
                                      <p:cBhvr>
                                        <p:cTn id="56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25809E-006 L -0.43941 -0.25971 E">
                                      <p:cBhvr>
                                        <p:cTn id="60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334040" y="3624120"/>
                <a:ext cx="4584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284720" y="3573360"/>
                <a:ext cx="4592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971960" y="1339920"/>
                <a:ext cx="30466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962600" y="1390680"/>
                <a:ext cx="2995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511200">
            <a:off x="2437200" y="390996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8436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8640" y="4005360"/>
            <a:ext cx="4500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0920" y="5734080"/>
            <a:ext cx="4825800" cy="71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70400" y="215748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ex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3640" y="9079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externe de aceasi parte a secantei suplemen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8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0472E-006 L -0.46875 -0.26712 E">
                                      <p:cBhvr>
                                        <p:cTn id="65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4838E-006 L -0.46372 -0.16813 E">
                                      <p:cBhvr>
                                        <p:cTn id="68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076720" y="1413000"/>
                <a:ext cx="2836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084720" y="1341360"/>
                <a:ext cx="24418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419640" y="1268280"/>
                <a:ext cx="2746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076720" y="1413000"/>
                <a:ext cx="2733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8511200">
            <a:off x="110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5720" y="537516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35002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969800">
            <a:off x="250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248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3860640"/>
            <a:ext cx="475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3860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2728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5928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6021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4508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in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riterii de paralelism </a:t>
            </a: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7720" y="907920"/>
            <a:ext cx="78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interne congruente, atunci dreptele sunt paralele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8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30805E-007 L -0.51962 -0.00486 E">
                                      <p:cBhvr>
                                        <p:cTn id="73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0833E-006 L -0.52517 0.08279 E">
                                      <p:cBhvr>
                                        <p:cTn id="758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003640" y="1557360"/>
                <a:ext cx="2840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076720" y="1557360"/>
                <a:ext cx="2735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8511200">
            <a:off x="2860560" y="3290040"/>
            <a:ext cx="1048320" cy="122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7213727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7213727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6400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3528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5928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64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5280" y="4508640"/>
            <a:ext cx="52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ex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8240" y="98100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externe congruente atunci dreptele sunt paralel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084720" y="1341360"/>
                <a:ext cx="24418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419640" y="1268280"/>
                <a:ext cx="2746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7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9759E-006 L -0.4566 -0.0363 E">
                                      <p:cBhvr>
                                        <p:cTn id="80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32007E-006 L -0.45434 0.06175 E">
                                      <p:cBhvr>
                                        <p:cTn id="83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0:38:07Z</dcterms:created>
  <dc:creator>Administrator</dc:creator>
  <dc:description/>
  <dc:language>en-US</dc:language>
  <cp:lastModifiedBy>Cursant17</cp:lastModifiedBy>
  <dcterms:modified xsi:type="dcterms:W3CDTF">2010-08-25T08:53:38Z</dcterms:modified>
  <cp:revision>30</cp:revision>
  <dc:subject/>
  <dc:title>Diapozitivul 1</dc:title>
</cp:coreProperties>
</file>